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F997-A333-467A-97F0-2DDD67DE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CA56-6813-45DF-A209-B0513656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9D39-4C53-423E-B72E-F50881E6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03DC-81D5-4529-A273-50C44DD9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E86-25F5-4631-B3DF-598A08BA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9A7-24DE-4703-A7C0-09096D01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518-B06B-42BE-836A-AE9D5C54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DD4B-9823-4CEA-9A81-FBE1CA1A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097C-BC30-477A-A4BC-54BA60C9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46B1-BC65-4C30-8B8C-D2C24661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8D0-2967-4E3F-A60D-2EC09943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C0B-3146-4C45-824D-C60B6287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BE15-CAB9-4F80-9B6D-08DEF090A7D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guidaspagna.net/gallery/madrid-foto/catedral-artesanal.htm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ww.guidaspagna.net/gallery/madrid-foto/museo-del-prado.htm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aggio in Spagna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5688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6560" y="1268280"/>
            <a:ext cx="6193080" cy="4129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 pa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16360" y="4365720"/>
            <a:ext cx="4175280" cy="2282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irenze (Peretola) - Barcellona (El Pra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 giug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6:15 11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sto tota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25,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cellon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48360" y="3141720"/>
            <a:ext cx="399564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3068640"/>
            <a:ext cx="4392360" cy="35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435640" y="404640"/>
            <a:ext cx="3492360" cy="242100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552600 h 2421000"/>
              <a:gd name="textAreaBottom" fmla="*/ 1868400 h 2421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cellona una fanta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tà da visitare in qualun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33360"/>
            <a:ext cx="2843280" cy="201600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 sono così ta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umenti che descriver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rebbe  impossi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bo tipic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43280" y="1341360"/>
            <a:ext cx="5943600" cy="3024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51280" y="5950080"/>
            <a:ext cx="1871640" cy="72072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mm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bon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76640"/>
            <a:ext cx="2987640" cy="215892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principali piatti Catala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aell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i spaghetti a i frutti di M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salmone dol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buonissime Tap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tante altre bon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79280" y="4508640"/>
            <a:ext cx="3095640" cy="2181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00720" y="4437000"/>
            <a:ext cx="2843280" cy="2104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35280" y="4508640"/>
            <a:ext cx="2448000" cy="143964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mbiamo citt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2276640"/>
            <a:ext cx="2520720" cy="316836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cambiare citt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biamo scel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nuovo l’ae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amo pronti 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4681440" cy="3456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516720" y="692280"/>
            <a:ext cx="1727280" cy="1150920"/>
          </a:xfrm>
          <a:prstGeom prst="wedgeRectCallout">
            <a:avLst>
              <a:gd name="adj1" fmla="val -45037"/>
              <a:gd name="adj2" fmla="val 7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he 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 voglio and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2053080" y="188640"/>
            <a:ext cx="72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32360" y="3789360"/>
            <a:ext cx="4211640" cy="2889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56360" y="2205000"/>
            <a:ext cx="2232000" cy="158292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delle città pi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de di 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prese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 questo pala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Basilica El Escoria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2781360"/>
            <a:ext cx="3313080" cy="3571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71640" y="1197000"/>
            <a:ext cx="3960720" cy="1224000"/>
          </a:xfrm>
          <a:custGeom>
            <a:avLst/>
            <a:gdLst>
              <a:gd name="textAreaLeft" fmla="*/ 0 w 3960720"/>
              <a:gd name="textAreaRight" fmla="*/ 3960720 w 3960720"/>
              <a:gd name="textAreaTop" fmla="*/ 158400 h 1224000"/>
              <a:gd name="textAreaBottom" fmla="*/ 10656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Basilica El Estorial è molto b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 visi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Playa Arganzuel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92720" y="0"/>
            <a:ext cx="3533760" cy="2106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627280" y="260280"/>
            <a:ext cx="2448000" cy="100800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il divert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può f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bagno nel fi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bo Madri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1052640"/>
            <a:ext cx="7705800" cy="108108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cibo che puoi trovare a Madrid è molto simile a quello di Barcello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trovano nello stesso stato comunque ci sono delle piccole differ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32360" y="2349360"/>
            <a:ext cx="3949560" cy="3002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148360" y="5734080"/>
            <a:ext cx="3311280" cy="719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drid sono famosi salu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formaggi MOLTO BU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3640" y="4941720"/>
            <a:ext cx="1800000" cy="16560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656000"/>
              <a:gd name="textAreaBottom" fmla="*/ 1656360 h 16560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26920" y="2349360"/>
            <a:ext cx="3745080" cy="2303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9280" y="4941720"/>
            <a:ext cx="2881440" cy="165600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 in ogni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tà, si trova semp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mercato dove si poss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vare le specialità de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i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1280" y="112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r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cell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700280"/>
            <a:ext cx="4176720" cy="309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Hotel di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entro con 2 letti sing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uno matrimoniale molto b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tato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tto al prezzo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7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9280" y="1700280"/>
            <a:ext cx="3960720" cy="309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Hotel di Barcell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molto vicino al c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2 letti singo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o matrimon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aluatato 7,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 prezzo d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84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4221000"/>
            <a:ext cx="3457440" cy="2133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292720" y="4292640"/>
            <a:ext cx="3168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troppo si rito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067280" y="1557360"/>
            <a:ext cx="4825800" cy="4464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0920" y="1628640"/>
            <a:ext cx="3529080" cy="3313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rtroppo bisogna ritornar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sa e quindi abbi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elto un volo della  vo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tis con il prezzo totale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li 85euro con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rtenza da Madrid Bar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e 10: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l’arrivo a Firenze Peret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e 12: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08:41:08Z</dcterms:created>
  <dc:creator>studente</dc:creator>
  <dc:description/>
  <dc:language>en-US</dc:language>
  <cp:lastModifiedBy>studente</cp:lastModifiedBy>
  <dcterms:modified xsi:type="dcterms:W3CDTF">2008-01-07T06:09:36Z</dcterms:modified>
  <cp:revision>7</cp:revision>
  <dc:subject/>
  <dc:title>Viaggio in Spagna  </dc:title>
</cp:coreProperties>
</file>