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F85A-A826-469E-8DC7-FE4F2B55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8FB5-AD0E-4498-B132-50BBA745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1697-51BF-4CB8-AA6C-36D175CD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B283-49C2-4A1D-99BE-EF137D939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C6A2-8CF1-4D7C-8BFC-49D46D4B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D386-6F02-44FA-8B6E-ACF29C0F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880A-FDC8-4D0E-A25B-0BBF4237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4CBE-722A-4EAA-B5DA-4DE6E6BB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88C1-5FE0-49E6-A337-2D368F53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1A46-DCAB-455C-AF50-9816C4BC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28EA-1CC5-44A8-BD1E-D492C7D4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E790-10D3-4026-81C0-6EAF7578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92C9-E553-4C45-A127-8A31F55D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844D-824F-4FC8-AB3F-53E186A2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22DE-584A-4589-9C6D-16CFDF8E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1B3D-63BA-402E-9319-E510AB98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842E-3AE8-4527-8684-5D774CA3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428353-5FBD-4FD6-916F-15ACFACE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99317D-962B-43CE-BA87-B1ED1D05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03943-EB53-4B4D-B2A8-513CCC35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121D00-4989-49CD-83C4-C8E16BFC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B027F-D392-4312-A3C6-335502FE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FD31-CC77-4CE4-A574-3B66F65F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2C8A0-2100-458F-AFF0-6FF7FDAE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DCA54-B752-41B7-9AEB-09304102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BE6B1-7CA5-4063-A23C-B99724B5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9C13C-5435-4347-B5BF-9267C9DD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93B94E-8C5A-4517-AC23-02BE58DC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947BD4-F921-42DC-8A01-1CE9BE44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6B3F86-4D8C-473C-937E-6F8F77C8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209E9-3428-4A0E-A0BF-CA07D772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5C6A2-A76F-48DD-B5D3-20641952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BC6C0-5AA2-408D-A1E0-550ADC05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B0AE-9989-4B72-9593-DCA78440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C7847-F686-4CDB-AAA8-0619CEFC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E1BF9-B299-4C3A-863C-DA074E97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7CA40-EBAE-40BD-9D97-18260D63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0DF3C-CCFA-4DD0-A99D-D02960C5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7487B-AC40-48EB-A5F0-F1B1BDAC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5C6E5-A9A7-4F49-B874-176ED2DB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E63B1-84F3-4D9A-B104-315F6839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F0BC7-F9FF-45B8-B86D-B1EA2DE1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61DA7-CB60-45A5-B974-1202DCA3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A6EF48-698A-4C54-9A8D-74B1A579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8FC9-5C2D-4772-8EC6-DA0A15E8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9678D6-BC3B-493F-AE04-09D9B981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536969-FF11-4523-9435-06E63390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B67213-C0A6-4807-81A0-F72060C9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A7BE44-DDCE-4DB5-81E5-C2ECCE8C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8A191F-973B-4BC6-AD35-921B4D71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7E7A7C-8443-4C6D-BF7A-3BF4B72D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92D1DB-EA49-4F8E-9937-AC2057E8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628C3D-58CA-4DFF-874A-8467DD7B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A8DCD3-A7C6-48AC-B3BA-4A002DAE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3ED62A-2F96-432A-82C9-6B8F6E36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9498-E4CB-4E46-B083-46B8262D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FBE6E6-2815-4C68-A942-5C370BC7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908D9D-9883-4C52-A7AF-6F4CF802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EB9D7A-FE4D-4ABC-B54D-30D2E640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E06133-1750-4914-BA96-6F44E87B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18B880-5077-4F29-8418-0AC7B78D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AB563D-3E80-4454-ACA6-E77BE452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B3207F-CFDC-4AED-8526-FA091269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C41283-DF1E-401D-80C1-E14C3530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110D41-7730-4CB7-85D9-5C940004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CD0100-4754-4376-9D56-2DAA8CBD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24FC-FACA-4625-BDEC-3C845F24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EA507E-6F26-46ED-B700-261A51A7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AE8247-21E6-4C36-81D9-940508F6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C72B55-9191-4DF1-BB95-981120CF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16C892-DD0F-4E15-8851-7696A462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1A8B85-7658-499B-B09C-BD419237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DB45FC-960F-4E1A-BCDD-608A5202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3D7B91-F3B1-4F85-AB6F-EB1DF197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6AA190-314F-42AE-B472-EE6ED11A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DBCB5A-4636-4116-808C-94334CD5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599187-E046-4641-AB56-DCC2EDC5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1484-C1AD-4659-8429-ED882DDD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A8DE68-143F-476F-91D8-2D9890EC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485176-FD09-4BD9-9C38-9DCEBC48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2CEE29-7182-4DD9-AF5B-D4EB7BAE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D5E499-E137-47A2-B603-62BCE895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9A9EDA-3A87-4530-8AF4-CB45188F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5C16-95B6-43E7-AC5C-4B2B1931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FC59-933D-437A-95C8-C7E386631149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ttango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ttango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ttango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tango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nettore 1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nnettore 1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onnettore 1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onnettore 1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nettore 1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onnettore 1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tango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6E18-EFB8-410B-836E-3AC0D92444E9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6CCE-7ED3-4ECA-ABAD-4B828CB4414F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ttango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ttango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ttango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ttango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nettore 1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onnettore 1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nettore 1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onnettore 1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onnettore 1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ttangolo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onnettore 1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53B6-247B-48B3-9B90-606E202554EB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DE36-3B27-4B1E-A226-10E5EADE478A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onnettore 1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onnettore 1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onnettore 1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onnettore 1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ttango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Connettore 1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5CBA-041C-4814-8043-AA87303C33DA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Connettore 1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Connettore 1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ttangolo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Connettore 1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Connettore 1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Connettore 1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B67E-F4ED-4D72-9BCC-005E7F4FADE1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ttangolo 3"/>
          <p:cNvSpPr/>
          <p:nvPr/>
        </p:nvSpPr>
        <p:spPr>
          <a:xfrm>
            <a:off x="0" y="549360"/>
            <a:ext cx="8893080" cy="50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Un ai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Conoscere il PEI (PDF-PIS)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sostenerne la stesura e sperimentar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l’utilit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619280" y="189000"/>
            <a:ext cx="61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0" y="0"/>
            <a:ext cx="9396360" cy="65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’ICF valuta quattro differenti  componenti della salute individual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E STRUTTURE CORPOREE 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(le parti anatomic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rgani,cchi, braccia..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enomazion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lificatore da nessuna menomazione 0 a 4 menomazione comp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E FUNZIONI CORPOREE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funzioni fisiologich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sta, funzioni psicologiche, motricità, sonno, respir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enomazion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lificatore da nessuna menomazione 0 a 4 menomazione comp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TTIVIT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( esecuzione di un compito)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TECIPAZIONE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coinvolgimento)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à e performanc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 nessuna difficoltà 0 a difficoltà complet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 FATTORI  AMBIENTA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ostituiscono gli atteggiamenti, negli ambienti in c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 persone vivo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rriere facilitato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539640" y="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i incontrano termini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Capacit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ioè  quella che una persona sa fare in un ambiente sconosciuto,  senza nessun tipo di aiuto. </a:t>
            </a:r>
            <a:br>
              <a:rPr sz="1800"/>
            </a:b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erfomanc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quello che la stessa persona riesce a fare nel suo abituale, e generalmente adattato, ambiente di vita.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Barrier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ttori ambientali che potrebbero ostacolare il funzionamento della persona e compromettere l’intervento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, la barriera limita la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Facilitatori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ttori ambientali che, mediante la loro presenza, migliorano il funzionamento della persona e rendono più probabile l’efficacia dell’intervento.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pensano e migliorano la perform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icf2_2"/>
          <p:cNvPicPr/>
          <p:nvPr/>
        </p:nvPicPr>
        <p:blipFill>
          <a:blip r:embed="rId1"/>
          <a:stretch/>
        </p:blipFill>
        <p:spPr>
          <a:xfrm>
            <a:off x="2268360" y="2897280"/>
            <a:ext cx="4751640" cy="3849480"/>
          </a:xfrm>
          <a:prstGeom prst="rect">
            <a:avLst/>
          </a:prstGeom>
          <a:ln w="76320">
            <a:solidFill>
              <a:srgbClr val="c0504d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CasellaDiTesto 1"/>
          <p:cNvSpPr/>
          <p:nvPr/>
        </p:nvSpPr>
        <p:spPr>
          <a:xfrm>
            <a:off x="900000" y="476280"/>
            <a:ext cx="7201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0000"/>
                </a:solidFill>
                <a:latin typeface="Arial"/>
              </a:rPr>
              <a:t>PASSO DOPO PASSO… NON DA SOLI ….MA CONDIVIDENDO TUTTO IL PERCORS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CasellaDiTesto 3"/>
          <p:cNvSpPr/>
          <p:nvPr/>
        </p:nvSpPr>
        <p:spPr>
          <a:xfrm>
            <a:off x="0" y="0"/>
            <a:ext cx="9144000" cy="89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Dalla  </a:t>
            </a: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DISABILITÀ CERTIFICATA </a:t>
            </a: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ertificazione ai sensi della L. n.104/92 art. 3 commi 1 o 3 (gravità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Alla formazione  d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GRUPPO  LAVORO HANDICAP OPERATIVO G.L.H.O. </a:t>
            </a: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dove sono presenti </a:t>
            </a:r>
            <a:r>
              <a:rPr b="0" lang="it-IT" sz="4400" spc="-1" strike="noStrike" u="sng">
                <a:solidFill>
                  <a:srgbClr val="000000"/>
                </a:solidFill>
                <a:uFillTx/>
                <a:latin typeface="Calibri"/>
              </a:rPr>
              <a:t>tutte le professionalità</a:t>
            </a: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 necessarie per individuare un'adeguata destinazione di risorse e consentire di realizzare il </a:t>
            </a: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Piano Educativo Individualizzato</a:t>
            </a: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0" y="112500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entury Schoolbook"/>
              </a:rPr>
              <a:t>Dalla  </a:t>
            </a:r>
            <a:r>
              <a:rPr b="1" lang="it-IT" sz="4400" spc="-1" strike="noStrike">
                <a:solidFill>
                  <a:srgbClr val="000000"/>
                </a:solidFill>
                <a:latin typeface="Century Schoolbook"/>
              </a:rPr>
              <a:t>DISABILITÀ CERTIFICATA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entury Schoolbook"/>
              </a:rPr>
              <a:t>Alla </a:t>
            </a:r>
            <a:r>
              <a:rPr b="1" lang="it-IT" sz="4400" spc="-1" strike="noStrike">
                <a:solidFill>
                  <a:srgbClr val="000000"/>
                </a:solidFill>
                <a:latin typeface="Century Schoolbook"/>
              </a:rPr>
              <a:t>DIAGNOSI FUNZIONALE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entury Schoolbook"/>
              </a:rPr>
              <a:t>Dalla</a:t>
            </a:r>
            <a:r>
              <a:rPr b="1" lang="it-IT" sz="4400" spc="-1" strike="noStrike">
                <a:solidFill>
                  <a:srgbClr val="000000"/>
                </a:solidFill>
                <a:latin typeface="Century Schoolbook"/>
              </a:rPr>
              <a:t> DIAGNOSI FUNZIONALE </a:t>
            </a:r>
            <a:r>
              <a:rPr b="0" lang="it-IT" sz="4400" spc="-1" strike="noStrike">
                <a:solidFill>
                  <a:srgbClr val="000000"/>
                </a:solidFill>
                <a:latin typeface="Century Schoolbook"/>
              </a:rPr>
              <a:t>AL</a:t>
            </a:r>
            <a:r>
              <a:rPr b="1" lang="it-IT" sz="4400" spc="-1" strike="noStrike">
                <a:solidFill>
                  <a:srgbClr val="000000"/>
                </a:solidFill>
                <a:latin typeface="Century Schoolbook"/>
              </a:rPr>
              <a:t> PROFILO DINAMICO FUNZIONALE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ttangolo 1"/>
          <p:cNvSpPr/>
          <p:nvPr/>
        </p:nvSpPr>
        <p:spPr>
          <a:xfrm>
            <a:off x="395280" y="333360"/>
            <a:ext cx="8353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mpilazione e/o revisione del PDF annua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frutto del lavor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-d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tut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gli insegnanti (dopo aver fatto le osservazioni iniziali, le prove di ingresso, aver preso  visione del PDF dell’anno passato, usato gli indicatori messi a disposizi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-delle osservazioni degli assistenti/educ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-dei suggerimenti dati dalla famig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-da una D.F. comprensibile ed esplica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 CONDIVIDERE  AL PRIMO GL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"/>
          <p:cNvSpPr/>
          <p:nvPr/>
        </p:nvSpPr>
        <p:spPr>
          <a:xfrm>
            <a:off x="0" y="501120"/>
            <a:ext cx="8893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09800"/>
                <a:tab algn="r" pos="6181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STITUTO COMPRENSIVO DI 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09800"/>
                <a:tab algn="r" pos="6181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(Timb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09800"/>
                <a:tab algn="r" pos="6181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ILO DINAMICO FUNZ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09800"/>
                <a:tab algn="r" pos="6181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(P. D. F 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09800"/>
                <a:tab algn="r" pos="6181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lunno/a ________________________________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09800"/>
                <a:tab algn="r" pos="6181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nato/a il   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09800"/>
                <a:tab algn="r" pos="6181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esidente in___________________Via 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09800"/>
                <a:tab algn="r" pos="6181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elefono ____________________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scritto/a per la prima volta      sì___ no__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09800"/>
                <a:tab algn="r" pos="6181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rattenuto sì___  no____per n°___ a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09800"/>
                <a:tab algn="r" pos="6181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er l'anno scolastic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__________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ll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cuola Pri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09800"/>
                <a:tab algn="r" pos="6181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i 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09800"/>
                <a:tab algn="r" pos="6181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lasse __________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ezione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09800"/>
                <a:tab algn="r" pos="6181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numero alunni della classe ____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i cui alunni disabili n°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09800"/>
                <a:tab algn="r" pos="6181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zienda U S.L. N°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09800"/>
                <a:tab algn="r" pos="6181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IA GNOSI SANI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09800"/>
                <a:tab algn="r" pos="6181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_______________________________________________________________________________________________________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09800"/>
                <a:tab algn="r" pos="6181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ilasciata il_____________________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Firmata dal dott. 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CasellaDiTesto 3"/>
          <p:cNvSpPr/>
          <p:nvPr/>
        </p:nvSpPr>
        <p:spPr>
          <a:xfrm>
            <a:off x="0" y="0"/>
            <a:ext cx="932508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REA  COGNITIVA E DELL’APPREND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ITUAZIONE ATTU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me funziona l’asse cognitivo  riguardo all’attenzione alla memoria  all’associazione…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me funziona l’apprendimento nell’ambito linguistico logico-matematico ludico-espressivo…. riguardo alla capacita’ di fare esperienze, di operare, di trasferire le competenz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OSSIBILE EVOLUZIONE (OBIETTIVI PRIORITAR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laborare un obiettivo equivale a prospettare un´azione da compiere o una conoscenza da acquisire non in modo approssimativo, ma preciso, concreto, determinato e controllab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sare verbi specifici per ogni 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bbinare/ raccogliere/ applicare/ scrivere/ disegnare/ selezionare/ nominare/ usare/raggruppare/ memorizzare/ classificare/ identificare/ produrre/ distinguere /scegliere/eseguire/ trovare/ seri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CasellaDiTesto 1"/>
          <p:cNvSpPr/>
          <p:nvPr/>
        </p:nvSpPr>
        <p:spPr>
          <a:xfrm>
            <a:off x="0" y="0"/>
            <a:ext cx="9144000" cy="81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SSERVAZIONI, SUGGERIMENTI (BARRIERE E FACILITATORI)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ELIMINARE LE BARRIERE ED INTRODURRE FACILITATORI CHE PERMETTANO DI RAGGIUNGERE LA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acilit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FORMATICI: software, tastiere ingrandite, puntatori, mouse particolari, compute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UNICATIVI: protesi sensoriali, comunicatori per immagini, sintesi vocale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L'APPRENDIMENTO: mappe, lettura dell’insegnante, schemi, testo semplificato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LA MOBILITA': tutore, stabilizzatore, girello, tappe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Barri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POSTAMENTO (mancanza di spazio tra i banchi per una carrozzina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UNICAZIONE (mancanza di comunicatore, rumore eccessivo nell’aula, un atteggiamento negativo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DATTICA (mancanza di sussidi strutturati e adeguati per la tipologia di difficoltà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PRENDIMENTO (hardware e software non adattati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CasellaDiTesto 2"/>
          <p:cNvSpPr/>
          <p:nvPr/>
        </p:nvSpPr>
        <p:spPr>
          <a:xfrm>
            <a:off x="179280" y="0"/>
            <a:ext cx="8964720" cy="57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ESPRESSIONI DA EVIT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Apprezzare,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potenziare, migliorar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sviluppare, implementare, aumentar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Manifestare, capire, mostrarsi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Cogliere, pensare, interiorizzar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Perfezionare, credere, percepir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sere consapevole, saper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Interessarsi, sentir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CasellaDiTesto 1"/>
          <p:cNvSpPr/>
          <p:nvPr/>
        </p:nvSpPr>
        <p:spPr>
          <a:xfrm>
            <a:off x="0" y="577800"/>
            <a:ext cx="914400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000000"/>
                </a:solidFill>
                <a:latin typeface="Arial"/>
              </a:rPr>
              <a:t>CHIARIAMOC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it-IT" sz="6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000000"/>
                </a:solidFill>
                <a:latin typeface="Arial"/>
              </a:rPr>
              <a:t>Qual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6600" spc="-1" strike="noStrike">
                <a:solidFill>
                  <a:srgbClr val="000000"/>
                </a:solidFill>
                <a:latin typeface="Arial"/>
              </a:rPr>
              <a:t>sono i BE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NTESI NORMATIVA Riferiment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RETTIVA MINISTERIALE del 27 dicembre 2012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RCOLARE MINISTERIALE n.8 del 6 marzo 2013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178920" y="260280"/>
            <a:ext cx="8496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Verbale del 1° incontro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Ore di sostegno assegnate: tot. ore ........    ore educatore assegnate: tot. ore ........   Si passa alla stesura del PDF  avendo cura di condividere collegialmente la situazione iniziale, gli obiettivi prioritari, facilitatori e barriere.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Qui di seguito sono riportate eventuali decisioni e/o considerazioni eme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ata dell’incontro successiv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Verbale dell’incontro intermed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Se  necessario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CasellaDiTesto 2"/>
          <p:cNvSpPr/>
          <p:nvPr/>
        </p:nvSpPr>
        <p:spPr>
          <a:xfrm>
            <a:off x="250920" y="0"/>
            <a:ext cx="8893080" cy="66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erbale dell’ultimo  incon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GLHO si riunisce  per la verifica finale del PEI (PDF-P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Copiare e incollare la verifica finale del P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portare di seguito  eventuali decisioni e/o considerazioni emerse durante l’incontro in merito agli eventuali impegni per il periodo estivo, accoglienza per il prossimo anno (scelta di un gruppo, laboratori, orario ridotto, richiesta di un educatore…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passa quindi a redigere e definire congiuntamente le IPOTESI PER IL PROSSIMO ANNO (foglio del PIS da allegar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hiedere agli operatori sanitari  se sono d’accordo dato che il PIS e’ solo sperimenta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684000" y="765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entury Schoolbook"/>
              </a:rPr>
              <a:t>IL PROFILO DINAMICO FUNZIONALE VA CONSEGNATO ENTRO  il  30 novembre in segreteria completo con le firme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Century Schoolbook"/>
              </a:rPr>
              <a:t>DAL </a:t>
            </a:r>
            <a:r>
              <a:rPr b="1" lang="it-IT" sz="4800" spc="-1" strike="noStrike">
                <a:solidFill>
                  <a:srgbClr val="000000"/>
                </a:solidFill>
                <a:latin typeface="Century Schoolbook"/>
              </a:rPr>
              <a:t>PROFILO DINAMICO FUNZIONALE 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Century Schoolbook"/>
              </a:rPr>
              <a:t>AL </a:t>
            </a:r>
            <a:r>
              <a:rPr b="1" lang="it-IT" sz="4800" spc="-1" strike="noStrike">
                <a:solidFill>
                  <a:srgbClr val="000000"/>
                </a:solidFill>
                <a:latin typeface="Century Schoolbook"/>
              </a:rPr>
              <a:t>PIANO D’INCLUSIONE SCOLASTICA (PIS)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"/>
          <p:cNvSpPr/>
          <p:nvPr/>
        </p:nvSpPr>
        <p:spPr>
          <a:xfrm>
            <a:off x="0" y="250560"/>
            <a:ext cx="89647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Compilazione del P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frutto del lavor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di </a:t>
            </a:r>
            <a:r>
              <a:rPr b="1" lang="it-IT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tutti</a:t>
            </a:r>
            <a:r>
              <a:rPr b="0" lang="it-IT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gli insegnanti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Degli </a:t>
            </a:r>
            <a:r>
              <a:rPr b="1" lang="it-IT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assistenti/educato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viene  letto e approvato dal Consiglio di classe o in sede di programmazion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In caso di alunni in stato di gravità anche </a:t>
            </a: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l’assistente di base </a:t>
            </a: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deve essere messo al corrente delle barriere e dei facilitatori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L’insegnante di sostegno è il coordinatore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"/>
          <p:cNvSpPr/>
          <p:nvPr/>
        </p:nvSpPr>
        <p:spPr>
          <a:xfrm>
            <a:off x="2411280" y="1477080"/>
            <a:ext cx="4105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OGO DELLA SCU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000000"/>
                </a:solidFill>
                <a:latin typeface="Verdana"/>
                <a:ea typeface="Times New Roman"/>
              </a:rPr>
              <a:t>P.E.I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PR24/02/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CasellaDiTesto 5"/>
          <p:cNvSpPr/>
          <p:nvPr/>
        </p:nvSpPr>
        <p:spPr>
          <a:xfrm>
            <a:off x="0" y="18900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rima pag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ttangolo 3"/>
          <p:cNvSpPr/>
          <p:nvPr/>
        </p:nvSpPr>
        <p:spPr>
          <a:xfrm>
            <a:off x="342720" y="333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econda pag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CasellaDiTesto 4"/>
          <p:cNvSpPr/>
          <p:nvPr/>
        </p:nvSpPr>
        <p:spPr>
          <a:xfrm>
            <a:off x="1258920" y="1268280"/>
            <a:ext cx="655308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Arial"/>
              </a:rPr>
              <a:t>P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IANO DI INCLUSIONE SCOLA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cuola dell’Infanzia di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nno Scola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CasellaDiTesto 3"/>
          <p:cNvSpPr/>
          <p:nvPr/>
        </p:nvSpPr>
        <p:spPr>
          <a:xfrm>
            <a:off x="539640" y="1773360"/>
            <a:ext cx="820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eguono le pag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 i dati gener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li or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 strategie di emerg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 ris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getti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EPISODI SIGNIFICATIVI DA EVIDENZIARE NEL CORSO DELL’AN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0" y="260280"/>
            <a:ext cx="8507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OBIETTIVI TRASVERSAL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rea cognit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Obiettivi prioritari di sviluppo rilevati dal DP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Esegue semplici consegn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Rif. ICF d 210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ottobiettiv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1.1 Rivolge lo sguardo e/o l’attenzione verso l’interlocutore (insegnante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1.2 Comprende la sequenza di azioni da compie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1.3 Esegue la consegna (in modo corretto, in modo approssimativo, in totale autonomia, in parziale autonomia, solo se guidato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CasellaDiTesto 3"/>
          <p:cNvSpPr/>
          <p:nvPr/>
        </p:nvSpPr>
        <p:spPr>
          <a:xfrm>
            <a:off x="0" y="0"/>
            <a:ext cx="84963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TERV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ottobiettivo n° …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(che cosa f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UOGO (classe/ laboratorio/ ec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ATER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(strumenti utilizza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ACILIT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ARRI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HI LO 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C:\Users\Grazia\Desktop\bes\bes schema.jpg"/>
          <p:cNvPicPr/>
          <p:nvPr/>
        </p:nvPicPr>
        <p:blipFill>
          <a:blip r:embed="rId1"/>
          <a:stretch/>
        </p:blipFill>
        <p:spPr>
          <a:xfrm>
            <a:off x="58680" y="333360"/>
            <a:ext cx="9085320" cy="6191280"/>
          </a:xfrm>
          <a:prstGeom prst="rect">
            <a:avLst/>
          </a:prstGeom>
          <a:ln w="0">
            <a:noFill/>
          </a:ln>
        </p:spPr>
      </p:pic>
      <p:sp>
        <p:nvSpPr>
          <p:cNvPr id="378" name="Figura a mano libera 4"/>
          <p:cNvSpPr/>
          <p:nvPr/>
        </p:nvSpPr>
        <p:spPr>
          <a:xfrm>
            <a:off x="1230480" y="3743280"/>
            <a:ext cx="6699240" cy="1674720"/>
          </a:xfrm>
          <a:custGeom>
            <a:avLst/>
            <a:gdLst/>
            <a:ahLst/>
            <a:rect l="l" t="t" r="r" b="b"/>
            <a:pathLst>
              <a:path w="6699377" h="1674153">
                <a:moveTo>
                  <a:pt x="776249" y="486798"/>
                </a:moveTo>
                <a:cubicBezTo>
                  <a:pt x="721658" y="491347"/>
                  <a:pt x="666511" y="491440"/>
                  <a:pt x="612476" y="500446"/>
                </a:cubicBezTo>
                <a:cubicBezTo>
                  <a:pt x="584095" y="505176"/>
                  <a:pt x="557885" y="518643"/>
                  <a:pt x="530589" y="527741"/>
                </a:cubicBezTo>
                <a:cubicBezTo>
                  <a:pt x="516941" y="532290"/>
                  <a:pt x="501616" y="533409"/>
                  <a:pt x="489646" y="541389"/>
                </a:cubicBezTo>
                <a:cubicBezTo>
                  <a:pt x="475998" y="550488"/>
                  <a:pt x="463374" y="561350"/>
                  <a:pt x="448703" y="568685"/>
                </a:cubicBezTo>
                <a:cubicBezTo>
                  <a:pt x="429129" y="578472"/>
                  <a:pt x="370651" y="591609"/>
                  <a:pt x="353168" y="595980"/>
                </a:cubicBezTo>
                <a:cubicBezTo>
                  <a:pt x="126842" y="731774"/>
                  <a:pt x="411075" y="570243"/>
                  <a:pt x="230338" y="650571"/>
                </a:cubicBezTo>
                <a:cubicBezTo>
                  <a:pt x="172425" y="676310"/>
                  <a:pt x="169089" y="691420"/>
                  <a:pt x="121156" y="718810"/>
                </a:cubicBezTo>
                <a:cubicBezTo>
                  <a:pt x="103492" y="728904"/>
                  <a:pt x="84762" y="737007"/>
                  <a:pt x="66565" y="746105"/>
                </a:cubicBezTo>
                <a:cubicBezTo>
                  <a:pt x="62016" y="759753"/>
                  <a:pt x="59352" y="774182"/>
                  <a:pt x="52918" y="787049"/>
                </a:cubicBezTo>
                <a:cubicBezTo>
                  <a:pt x="0" y="892886"/>
                  <a:pt x="46282" y="766014"/>
                  <a:pt x="11974" y="868935"/>
                </a:cubicBezTo>
                <a:cubicBezTo>
                  <a:pt x="16523" y="959920"/>
                  <a:pt x="18057" y="1051107"/>
                  <a:pt x="25622" y="1141891"/>
                </a:cubicBezTo>
                <a:cubicBezTo>
                  <a:pt x="28228" y="1173165"/>
                  <a:pt x="54486" y="1240561"/>
                  <a:pt x="66565" y="1264720"/>
                </a:cubicBezTo>
                <a:cubicBezTo>
                  <a:pt x="94998" y="1321586"/>
                  <a:pt x="114332" y="1319312"/>
                  <a:pt x="175747" y="1360255"/>
                </a:cubicBezTo>
                <a:cubicBezTo>
                  <a:pt x="189395" y="1369354"/>
                  <a:pt x="203569" y="1377708"/>
                  <a:pt x="216691" y="1387550"/>
                </a:cubicBezTo>
                <a:cubicBezTo>
                  <a:pt x="234888" y="1401198"/>
                  <a:pt x="251533" y="1417208"/>
                  <a:pt x="271282" y="1428493"/>
                </a:cubicBezTo>
                <a:cubicBezTo>
                  <a:pt x="283772" y="1435630"/>
                  <a:pt x="299649" y="1435155"/>
                  <a:pt x="312225" y="1442141"/>
                </a:cubicBezTo>
                <a:cubicBezTo>
                  <a:pt x="340902" y="1458073"/>
                  <a:pt x="361636" y="1492093"/>
                  <a:pt x="394112" y="1496732"/>
                </a:cubicBezTo>
                <a:lnTo>
                  <a:pt x="489646" y="1510380"/>
                </a:lnTo>
                <a:cubicBezTo>
                  <a:pt x="552300" y="1531265"/>
                  <a:pt x="525134" y="1524575"/>
                  <a:pt x="612476" y="1537676"/>
                </a:cubicBezTo>
                <a:cubicBezTo>
                  <a:pt x="676100" y="1547220"/>
                  <a:pt x="739527" y="1558569"/>
                  <a:pt x="803544" y="1564971"/>
                </a:cubicBezTo>
                <a:lnTo>
                  <a:pt x="1076500" y="1592267"/>
                </a:lnTo>
                <a:cubicBezTo>
                  <a:pt x="1108471" y="1595819"/>
                  <a:pt x="1139961" y="1603447"/>
                  <a:pt x="1172034" y="1605914"/>
                </a:cubicBezTo>
                <a:cubicBezTo>
                  <a:pt x="1258334" y="1612552"/>
                  <a:pt x="1344905" y="1615013"/>
                  <a:pt x="1431341" y="1619562"/>
                </a:cubicBezTo>
                <a:cubicBezTo>
                  <a:pt x="1487353" y="1633565"/>
                  <a:pt x="1555429" y="1651093"/>
                  <a:pt x="1608762" y="1660505"/>
                </a:cubicBezTo>
                <a:cubicBezTo>
                  <a:pt x="1644881" y="1666879"/>
                  <a:pt x="1681550" y="1669604"/>
                  <a:pt x="1717944" y="1674153"/>
                </a:cubicBezTo>
                <a:lnTo>
                  <a:pt x="3096368" y="1660505"/>
                </a:lnTo>
                <a:cubicBezTo>
                  <a:pt x="3116704" y="1659924"/>
                  <a:pt x="3131331" y="1638563"/>
                  <a:pt x="3150959" y="1633210"/>
                </a:cubicBezTo>
                <a:cubicBezTo>
                  <a:pt x="3181994" y="1624746"/>
                  <a:pt x="3214700" y="1624454"/>
                  <a:pt x="3246494" y="1619562"/>
                </a:cubicBezTo>
                <a:cubicBezTo>
                  <a:pt x="3407128" y="1594849"/>
                  <a:pt x="3251881" y="1612289"/>
                  <a:pt x="3492153" y="1592267"/>
                </a:cubicBezTo>
                <a:cubicBezTo>
                  <a:pt x="3713637" y="1503672"/>
                  <a:pt x="3501125" y="1579582"/>
                  <a:pt x="4038064" y="1551323"/>
                </a:cubicBezTo>
                <a:cubicBezTo>
                  <a:pt x="4052430" y="1550567"/>
                  <a:pt x="4064709" y="1539265"/>
                  <a:pt x="4079007" y="1537676"/>
                </a:cubicBezTo>
                <a:cubicBezTo>
                  <a:pt x="4146979" y="1530124"/>
                  <a:pt x="4215591" y="1529953"/>
                  <a:pt x="4283724" y="1524028"/>
                </a:cubicBezTo>
                <a:cubicBezTo>
                  <a:pt x="4320263" y="1520851"/>
                  <a:pt x="4356512" y="1514929"/>
                  <a:pt x="4392906" y="1510380"/>
                </a:cubicBezTo>
                <a:cubicBezTo>
                  <a:pt x="4411103" y="1501282"/>
                  <a:pt x="4428196" y="1489519"/>
                  <a:pt x="4447497" y="1483085"/>
                </a:cubicBezTo>
                <a:cubicBezTo>
                  <a:pt x="4538805" y="1452649"/>
                  <a:pt x="4552662" y="1459322"/>
                  <a:pt x="4638565" y="1442141"/>
                </a:cubicBezTo>
                <a:cubicBezTo>
                  <a:pt x="4656958" y="1438462"/>
                  <a:pt x="4674846" y="1432562"/>
                  <a:pt x="4693156" y="1428493"/>
                </a:cubicBezTo>
                <a:cubicBezTo>
                  <a:pt x="4715800" y="1423461"/>
                  <a:pt x="4739091" y="1421219"/>
                  <a:pt x="4761395" y="1414846"/>
                </a:cubicBezTo>
                <a:cubicBezTo>
                  <a:pt x="4986696" y="1350474"/>
                  <a:pt x="4798656" y="1391015"/>
                  <a:pt x="4952464" y="1360255"/>
                </a:cubicBezTo>
                <a:cubicBezTo>
                  <a:pt x="4975210" y="1351156"/>
                  <a:pt x="4996748" y="1338092"/>
                  <a:pt x="5020703" y="1332959"/>
                </a:cubicBezTo>
                <a:cubicBezTo>
                  <a:pt x="5060984" y="1324327"/>
                  <a:pt x="5102698" y="1324755"/>
                  <a:pt x="5143532" y="1319311"/>
                </a:cubicBezTo>
                <a:cubicBezTo>
                  <a:pt x="5170961" y="1315654"/>
                  <a:pt x="5198123" y="1310213"/>
                  <a:pt x="5225419" y="1305664"/>
                </a:cubicBezTo>
                <a:lnTo>
                  <a:pt x="5853216" y="1332959"/>
                </a:lnTo>
                <a:cubicBezTo>
                  <a:pt x="5871939" y="1334082"/>
                  <a:pt x="5890567" y="1339218"/>
                  <a:pt x="5907807" y="1346607"/>
                </a:cubicBezTo>
                <a:cubicBezTo>
                  <a:pt x="5922883" y="1353068"/>
                  <a:pt x="5935102" y="1364804"/>
                  <a:pt x="5948750" y="1373902"/>
                </a:cubicBezTo>
                <a:cubicBezTo>
                  <a:pt x="6048834" y="1369353"/>
                  <a:pt x="6149109" y="1367939"/>
                  <a:pt x="6249001" y="1360255"/>
                </a:cubicBezTo>
                <a:cubicBezTo>
                  <a:pt x="6267703" y="1358816"/>
                  <a:pt x="6286352" y="1353996"/>
                  <a:pt x="6303592" y="1346607"/>
                </a:cubicBezTo>
                <a:cubicBezTo>
                  <a:pt x="6488745" y="1267254"/>
                  <a:pt x="6212991" y="1363156"/>
                  <a:pt x="6385479" y="1305664"/>
                </a:cubicBezTo>
                <a:cubicBezTo>
                  <a:pt x="6399127" y="1296565"/>
                  <a:pt x="6411751" y="1285704"/>
                  <a:pt x="6426422" y="1278368"/>
                </a:cubicBezTo>
                <a:cubicBezTo>
                  <a:pt x="6439289" y="1271934"/>
                  <a:pt x="6456131" y="1273707"/>
                  <a:pt x="6467365" y="1264720"/>
                </a:cubicBezTo>
                <a:cubicBezTo>
                  <a:pt x="6480173" y="1254473"/>
                  <a:pt x="6481853" y="1234024"/>
                  <a:pt x="6494661" y="1223777"/>
                </a:cubicBezTo>
                <a:cubicBezTo>
                  <a:pt x="6505895" y="1214790"/>
                  <a:pt x="6522381" y="1215796"/>
                  <a:pt x="6535604" y="1210129"/>
                </a:cubicBezTo>
                <a:cubicBezTo>
                  <a:pt x="6593889" y="1185150"/>
                  <a:pt x="6592535" y="1181079"/>
                  <a:pt x="6644786" y="1141891"/>
                </a:cubicBezTo>
                <a:cubicBezTo>
                  <a:pt x="6653885" y="1128243"/>
                  <a:pt x="6666895" y="1116508"/>
                  <a:pt x="6672082" y="1100947"/>
                </a:cubicBezTo>
                <a:cubicBezTo>
                  <a:pt x="6680833" y="1074695"/>
                  <a:pt x="6680779" y="1046286"/>
                  <a:pt x="6685729" y="1019061"/>
                </a:cubicBezTo>
                <a:cubicBezTo>
                  <a:pt x="6689879" y="996238"/>
                  <a:pt x="6694828" y="973568"/>
                  <a:pt x="6699377" y="950822"/>
                </a:cubicBezTo>
                <a:cubicBezTo>
                  <a:pt x="6694828" y="759753"/>
                  <a:pt x="6693685" y="568573"/>
                  <a:pt x="6685729" y="377616"/>
                </a:cubicBezTo>
                <a:cubicBezTo>
                  <a:pt x="6685208" y="365108"/>
                  <a:pt x="6667806" y="263007"/>
                  <a:pt x="6658434" y="241138"/>
                </a:cubicBezTo>
                <a:cubicBezTo>
                  <a:pt x="6651973" y="226062"/>
                  <a:pt x="6640237" y="213843"/>
                  <a:pt x="6631138" y="200195"/>
                </a:cubicBezTo>
                <a:cubicBezTo>
                  <a:pt x="6626589" y="177449"/>
                  <a:pt x="6623117" y="154460"/>
                  <a:pt x="6617491" y="131956"/>
                </a:cubicBezTo>
                <a:cubicBezTo>
                  <a:pt x="6614002" y="118000"/>
                  <a:pt x="6614015" y="101185"/>
                  <a:pt x="6603843" y="91013"/>
                </a:cubicBezTo>
                <a:cubicBezTo>
                  <a:pt x="6589457" y="76627"/>
                  <a:pt x="6565807" y="75542"/>
                  <a:pt x="6549252" y="63717"/>
                </a:cubicBezTo>
                <a:cubicBezTo>
                  <a:pt x="6460048" y="0"/>
                  <a:pt x="6565524" y="34217"/>
                  <a:pt x="6440070" y="9126"/>
                </a:cubicBezTo>
                <a:lnTo>
                  <a:pt x="5784977" y="36422"/>
                </a:lnTo>
                <a:cubicBezTo>
                  <a:pt x="5739506" y="38948"/>
                  <a:pt x="5612204" y="71376"/>
                  <a:pt x="5580261" y="77365"/>
                </a:cubicBezTo>
                <a:cubicBezTo>
                  <a:pt x="5548644" y="83293"/>
                  <a:pt x="5516572" y="86464"/>
                  <a:pt x="5484727" y="91013"/>
                </a:cubicBezTo>
                <a:cubicBezTo>
                  <a:pt x="5461981" y="100111"/>
                  <a:pt x="5440123" y="111862"/>
                  <a:pt x="5416488" y="118308"/>
                </a:cubicBezTo>
                <a:cubicBezTo>
                  <a:pt x="5389791" y="125589"/>
                  <a:pt x="5361736" y="126529"/>
                  <a:pt x="5334601" y="131956"/>
                </a:cubicBezTo>
                <a:cubicBezTo>
                  <a:pt x="5316208" y="135635"/>
                  <a:pt x="5298320" y="141535"/>
                  <a:pt x="5280010" y="145604"/>
                </a:cubicBezTo>
                <a:cubicBezTo>
                  <a:pt x="5257366" y="150636"/>
                  <a:pt x="5234150" y="153149"/>
                  <a:pt x="5211771" y="159252"/>
                </a:cubicBezTo>
                <a:cubicBezTo>
                  <a:pt x="5184013" y="166822"/>
                  <a:pt x="5157443" y="178280"/>
                  <a:pt x="5129885" y="186547"/>
                </a:cubicBezTo>
                <a:cubicBezTo>
                  <a:pt x="5111919" y="191937"/>
                  <a:pt x="5093491" y="195646"/>
                  <a:pt x="5075294" y="200195"/>
                </a:cubicBezTo>
                <a:cubicBezTo>
                  <a:pt x="4991197" y="256260"/>
                  <a:pt x="5084166" y="201787"/>
                  <a:pt x="4966112" y="241138"/>
                </a:cubicBezTo>
                <a:cubicBezTo>
                  <a:pt x="4946811" y="247572"/>
                  <a:pt x="4930221" y="260420"/>
                  <a:pt x="4911521" y="268434"/>
                </a:cubicBezTo>
                <a:cubicBezTo>
                  <a:pt x="4867843" y="287153"/>
                  <a:pt x="4853609" y="282911"/>
                  <a:pt x="4802338" y="295729"/>
                </a:cubicBezTo>
                <a:cubicBezTo>
                  <a:pt x="4770208" y="303761"/>
                  <a:pt x="4739188" y="316085"/>
                  <a:pt x="4706804" y="323025"/>
                </a:cubicBezTo>
                <a:cubicBezTo>
                  <a:pt x="4675350" y="329765"/>
                  <a:pt x="4643288" y="333574"/>
                  <a:pt x="4611270" y="336673"/>
                </a:cubicBezTo>
                <a:cubicBezTo>
                  <a:pt x="4502219" y="347226"/>
                  <a:pt x="4392962" y="355565"/>
                  <a:pt x="4283724" y="363968"/>
                </a:cubicBezTo>
                <a:cubicBezTo>
                  <a:pt x="4069323" y="380460"/>
                  <a:pt x="4002134" y="380958"/>
                  <a:pt x="3765109" y="391264"/>
                </a:cubicBezTo>
                <a:cubicBezTo>
                  <a:pt x="3651378" y="404912"/>
                  <a:pt x="3535042" y="404426"/>
                  <a:pt x="3423915" y="432207"/>
                </a:cubicBezTo>
                <a:cubicBezTo>
                  <a:pt x="3387521" y="441305"/>
                  <a:pt x="3352230" y="458383"/>
                  <a:pt x="3314732" y="459502"/>
                </a:cubicBezTo>
                <a:cubicBezTo>
                  <a:pt x="2741709" y="476607"/>
                  <a:pt x="1595115" y="486798"/>
                  <a:pt x="1595115" y="486798"/>
                </a:cubicBezTo>
                <a:lnTo>
                  <a:pt x="1444989" y="500446"/>
                </a:lnTo>
                <a:cubicBezTo>
                  <a:pt x="1358507" y="509094"/>
                  <a:pt x="1272575" y="525852"/>
                  <a:pt x="1185682" y="527741"/>
                </a:cubicBezTo>
                <a:cubicBezTo>
                  <a:pt x="1062797" y="530412"/>
                  <a:pt x="940022" y="518642"/>
                  <a:pt x="817192" y="514093"/>
                </a:cubicBezTo>
                <a:lnTo>
                  <a:pt x="776249" y="486798"/>
                </a:lnTo>
                <a:close/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e 3"/>
          <p:cNvSpPr/>
          <p:nvPr/>
        </p:nvSpPr>
        <p:spPr>
          <a:xfrm>
            <a:off x="0" y="3645000"/>
            <a:ext cx="468360" cy="1512720"/>
          </a:xfrm>
          <a:prstGeom prst="ellipse">
            <a:avLst/>
          </a:prstGeom>
          <a:solidFill>
            <a:srgbClr val="ffffff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Schoolbook"/>
              </a:rPr>
              <a:t>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ttangolo 4"/>
          <p:cNvSpPr/>
          <p:nvPr/>
        </p:nvSpPr>
        <p:spPr>
          <a:xfrm>
            <a:off x="0" y="549360"/>
            <a:ext cx="932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652680" y="246240"/>
            <a:ext cx="81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ONITORAGGIO E VERIFICA IN ITIN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ATA        VERI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indicare concretamente i momenti significativi del percors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250920" y="3141720"/>
          <a:ext cx="8642160" cy="1950840"/>
        </p:xfrm>
        <a:graphic>
          <a:graphicData uri="http://schemas.openxmlformats.org/drawingml/2006/table">
            <a:tbl>
              <a:tblPr/>
              <a:tblGrid>
                <a:gridCol w="1842840"/>
                <a:gridCol w="6799320"/>
              </a:tblGrid>
              <a:tr h="244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TA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GLI OBIETTIV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                 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aggiunto      Parz. raggiunto      non raggiu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b 1                  □                             □                             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b 2                  □                             □                             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………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In caso di raggiungimento parziale o nullo, motivare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Rettangolo 8"/>
          <p:cNvSpPr/>
          <p:nvPr/>
        </p:nvSpPr>
        <p:spPr>
          <a:xfrm>
            <a:off x="643680" y="1628640"/>
            <a:ext cx="29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Verifica finale in dat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250560" y="-360"/>
            <a:ext cx="84358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Area degli apprendimenti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(questa scheda va compilata da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gni docente disciplinar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, per le singole materie, o gruppi di docenti, per are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DISCIPLINA/AREA: ………………………………………………………………………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Obiettivi specifici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Attività / Contenuti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MODALITA’  DI  VERIFICA 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[ ] domande a risposta aperta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[ ] questionario semi-strutturato       [ ] questionario strutturato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[ ]  tema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[ ] interrogazione oral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[ ] altro …………………………………………….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EVENTUALI  OSSERVAZIONI   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CasellaDiTesto 2"/>
          <p:cNvSpPr/>
          <p:nvPr/>
        </p:nvSpPr>
        <p:spPr>
          <a:xfrm>
            <a:off x="0" y="83664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Gli insegnanti di ogni disciplina  indicheranno (in una apposita scheda predisposta)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gli obiettivi e i contenuti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utili  per compilare l’AREA DEGLI APPRENDIMENT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(da riconsegnare all’insegnante di sostegno entro il 30 di ottobr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entury Schoolbook"/>
              </a:rPr>
              <a:t>BIBLIOGRAFIA SITOGRAFIA E SOFTWARE UTILIZZATI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1" lang="it-IT" sz="3600" spc="-1" strike="noStrike">
                <a:solidFill>
                  <a:srgbClr val="000000"/>
                </a:solidFill>
                <a:latin typeface="Century Schoolbook"/>
              </a:rPr>
              <a:t>VERIFICA E VALUTAZIONE FINALE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Century Schoolbook"/>
              </a:rPr>
              <a:t>IPOTESI PER IL PROSSIMO ANNO SCOLASTICO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1" lang="it-IT" sz="3600" spc="-1" strike="noStrike">
                <a:solidFill>
                  <a:srgbClr val="000000"/>
                </a:solidFill>
                <a:latin typeface="Century Schoolbook"/>
              </a:rPr>
              <a:t>FIRME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CasellaDiTesto 5"/>
          <p:cNvSpPr/>
          <p:nvPr/>
        </p:nvSpPr>
        <p:spPr>
          <a:xfrm>
            <a:off x="468360" y="52848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eguono le p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0" y="582480"/>
            <a:ext cx="9144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ntro il 30 novembre il P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eve essere compilato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l PIS ci accompagna come un registro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uò essere modificato in qualsiasi mo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 va consegnato all’ultimo incontro.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Tutti gli operatori sul “caso” devono potervi accedere con facilità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250560" y="188640"/>
            <a:ext cx="8496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entury Schoolbook"/>
              </a:rPr>
              <a:t>Vi ricordo che si deve portare a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1° incontro : </a:t>
            </a:r>
            <a:r>
              <a:rPr b="1" lang="it-IT" sz="2800" spc="-1" strike="noStrike">
                <a:solidFill>
                  <a:srgbClr val="000000"/>
                </a:solidFill>
                <a:latin typeface="Century Schoolbook"/>
              </a:rPr>
              <a:t>PDF compilato e fare verbale 1°incontro da inserire nel PDF con firm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Incontro intermedio ( se necessario) : </a:t>
            </a:r>
            <a:r>
              <a:rPr b="1" lang="it-IT" sz="2800" spc="-1" strike="noStrike">
                <a:solidFill>
                  <a:srgbClr val="000000"/>
                </a:solidFill>
                <a:latin typeface="Century Schoolbook"/>
              </a:rPr>
              <a:t>fare verbale da inserire nel PDF con firme  e portare il PI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Incontro  finale :</a:t>
            </a:r>
            <a:r>
              <a:rPr b="1" lang="it-IT" sz="2800" spc="-1" strike="noStrike">
                <a:solidFill>
                  <a:srgbClr val="000000"/>
                </a:solidFill>
                <a:latin typeface="Century Schoolbook"/>
              </a:rPr>
              <a:t>si consegna il PIS compilato in ogni sua parte ad eccezione delle IPOTESI PER IL PROSSIMO ANNO che vanno completate collegialmente, fare verbale da inserire nel PDF con firm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CasellaDiTesto 3"/>
          <p:cNvSpPr/>
          <p:nvPr/>
        </p:nvSpPr>
        <p:spPr>
          <a:xfrm>
            <a:off x="539640" y="765000"/>
            <a:ext cx="80647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C.E.P. Contratto Educativo Personalizza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La scheda orientativa 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il registr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sono compresi nella nuova moduli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Segnaposto contenuto 2" descr=""/>
          <p:cNvPicPr/>
          <p:nvPr/>
        </p:nvPicPr>
        <p:blipFill>
          <a:blip r:embed="rId1"/>
          <a:stretch/>
        </p:blipFill>
        <p:spPr>
          <a:xfrm>
            <a:off x="596880" y="981000"/>
            <a:ext cx="4226040" cy="3600360"/>
          </a:xfrm>
          <a:prstGeom prst="rect">
            <a:avLst/>
          </a:prstGeom>
          <a:ln w="0">
            <a:noFill/>
          </a:ln>
        </p:spPr>
      </p:pic>
      <p:sp>
        <p:nvSpPr>
          <p:cNvPr id="425" name="CasellaDiTesto 3"/>
          <p:cNvSpPr/>
          <p:nvPr/>
        </p:nvSpPr>
        <p:spPr>
          <a:xfrm>
            <a:off x="6134040" y="2565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Grazie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CasellaDiTesto 4"/>
          <p:cNvSpPr/>
          <p:nvPr/>
        </p:nvSpPr>
        <p:spPr>
          <a:xfrm>
            <a:off x="250920" y="5445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razianiann@tiscali.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CasellaDiTesto 3"/>
          <p:cNvSpPr/>
          <p:nvPr/>
        </p:nvSpPr>
        <p:spPr>
          <a:xfrm>
            <a:off x="468360" y="189000"/>
            <a:ext cx="7416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Cosa camb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CasellaDiTesto 2"/>
          <p:cNvSpPr/>
          <p:nvPr/>
        </p:nvSpPr>
        <p:spPr>
          <a:xfrm>
            <a:off x="179280" y="148428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SCU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GLHI viene sostituito dal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coordinato dal Dirigente Scolastico, ne fanno parte tutte le risorse specifiche e di coordinamento presenti nella scuola e nel territorio (ASL EELL  Ass…..) Il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LI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 occupa di tutte le problematiche riferite ai B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ttangolo 1"/>
          <p:cNvSpPr/>
          <p:nvPr/>
        </p:nvSpPr>
        <p:spPr>
          <a:xfrm>
            <a:off x="250920" y="0"/>
            <a:ext cx="8893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A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Piano Annuale per l’Inclusività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o la C. M. n.8 del 6 marzo 2013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da redigere al termine di ogni anno scolastico (entro il mese di giugno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er sviluppar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didattica attenta ai bisogni di ciascu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er realizz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obiettivi comuni e di migliorament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ttraverso la trasversalit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gli ambiti dell’insegnamento curricolare, nella gestione delle classi, nell’organizzazione dei tempi e degli spazi scolastici, nelle relazioni tra docenti, alunni e famigli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CasellaDiTesto 5"/>
          <p:cNvSpPr/>
          <p:nvPr/>
        </p:nvSpPr>
        <p:spPr>
          <a:xfrm>
            <a:off x="179280" y="260280"/>
            <a:ext cx="8964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 LIVELLO TERRITOR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 CTS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Centri Territoriali di suppor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CTS sono Centri collocati presso scuole po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formano i docenti, gli alunni, gli studenti e i loro genitori delle risorse tecnologiche disponibili, sia gratuite sia commerciali per tutti i B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TI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Centri Territoriali per l’Inclusion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CTI, di livello distrettuale, sono affiancati dai CTS. Svolgono la funzione di reti territoriali per la gestione ottimale delle risorse umane, strumentali  per l'integrazione degli alunni con bisogni educativi speciali e la formazione perman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asellaDiTesto 1"/>
          <p:cNvSpPr/>
          <p:nvPr/>
        </p:nvSpPr>
        <p:spPr>
          <a:xfrm>
            <a:off x="0" y="40464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E PERCHE’ L’ICF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nternational Classification of Functionin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dell’OM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CasellaDiTesto 2"/>
          <p:cNvSpPr/>
          <p:nvPr/>
        </p:nvSpPr>
        <p:spPr>
          <a:xfrm>
            <a:off x="0" y="2133720"/>
            <a:ext cx="8893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chè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 un linguaggio comune sulla salute e sulla disabilit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chè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nsidera la persona nella sua totalità, in una prospettiva bio-psico-sociale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ché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alute non significa solo assenza di malattia, ma tensione verso un equilibrio da un punto di vista fisico, psicologico, spiritua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ché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salute non può essere separata dal contesto o ambiente in cui la persona vive. La salute interagisce con l’ambiente e l’ambiente interagisce con la sal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ché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struire un profilo ICF è come disegnare una carta geografica (NPI Dottor Guido Fusa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CasellaDiTesto 3"/>
          <p:cNvSpPr/>
          <p:nvPr/>
        </p:nvSpPr>
        <p:spPr>
          <a:xfrm>
            <a:off x="611280" y="549360"/>
            <a:ext cx="78483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Grazie a questo strumento è possibile descrive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- il funzionamen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cioè gli aspetti che vengono considerati “positivi” di una persona, ovvero ciò che quella persona è in grado di f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- la disabilit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cioè gli aspetti “negativi” del funzionamento, ciò che una persona ha difficoltà a fare; - la presenza o l’assenza di menomazioni riguardanti le funzioni e/o le strutture corpore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- i fattori contestua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vale a dire l’influenza positiva o negativa che l’ambiente in cui vive la persona può avere sul funzionamento stesso della pers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4"/>
          <p:cNvSpPr/>
          <p:nvPr/>
        </p:nvSpPr>
        <p:spPr>
          <a:xfrm>
            <a:off x="468360" y="189000"/>
            <a:ext cx="84247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DUNQUE  L’ICF CONSENTE DI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MISUR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VALUT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COMPREND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DESCRIV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PROGRAMM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CONOSC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19:18:29Z</dcterms:created>
  <dc:creator>Grazia</dc:creator>
  <dc:description/>
  <dc:language>en-US</dc:language>
  <cp:lastModifiedBy>Grazia</cp:lastModifiedBy>
  <dcterms:modified xsi:type="dcterms:W3CDTF">2015-04-08T20:06:57Z</dcterms:modified>
  <cp:revision>131</cp:revision>
  <dc:subject/>
  <dc:title>Diapositiva 1</dc:title>
</cp:coreProperties>
</file>