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4B8-3645-4A86-83AF-E69C38D1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654-4F0B-4988-8B26-54737FC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CBE-33F7-4B3D-AB7F-A17CB5BD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6BC-57DB-49F4-BC5B-1F2BCB3A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0AF-80C4-4996-AEDB-6A82E6D4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7DD-9F2B-4DDB-B253-6FA6BDC9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932-2EFC-43E1-9A3D-13F0435B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441-22CC-4AB2-905A-AB65A875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D7C-3A7F-4F48-B0CA-2C167AD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922-9294-482B-8F16-A5D0DF1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8BF-0C6B-4139-9ED8-E4C1874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C1E-F8C8-4FBA-BD69-ACA1A29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CED9-C63B-43B0-BF26-9FBDE391713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e piante carniv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"/>
              </a:rPr>
              <a:t>Dionaea musci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09680" y="2588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"/>
              </a:rPr>
              <a:t>Le piante carnivore possono ess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58880"/>
            <a:ext cx="5429160" cy="305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61080" y="1609560"/>
            <a:ext cx="3382920" cy="349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724280"/>
            <a:ext cx="32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at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7160" y="50245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760" y="5419800"/>
            <a:ext cx="78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Le piante carnivore sono (dette talvolta piante insettivore) sono piante che intrappolano e consumano protozoi ed animal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specialmente insetti ed altri artropodi, al fine di ottenere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nutrienti essenziali per la loro cresc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7160" y="192240"/>
            <a:ext cx="833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La maggior parte delle piante carnivore vive nelle foreste equatoriali e tropicali dell'india, della Malesia, del Madagascar (</a:t>
            </a:r>
            <a:r>
              <a:rPr b="0" i="1" lang="it-IT" sz="1800" spc="-1" strike="noStrike">
                <a:solidFill>
                  <a:srgbClr val="000000"/>
                </a:solidFill>
                <a:latin typeface="comic"/>
              </a:rPr>
              <a:t>Nepenthaceae</a:t>
            </a: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); negli estesi pantani dell'Amazzonia, della Carolina e della Florida (</a:t>
            </a:r>
            <a:r>
              <a:rPr b="0" i="1" lang="it-IT" sz="1800" spc="-1" strike="noStrike">
                <a:solidFill>
                  <a:srgbClr val="000000"/>
                </a:solidFill>
                <a:latin typeface="comic"/>
              </a:rPr>
              <a:t>Sarracenia</a:t>
            </a: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, </a:t>
            </a:r>
            <a:r>
              <a:rPr b="0" i="1" lang="it-IT" sz="1800" spc="-1" strike="noStrike">
                <a:solidFill>
                  <a:srgbClr val="000000"/>
                </a:solidFill>
                <a:latin typeface="comic"/>
              </a:rPr>
              <a:t>Darlingtonia</a:t>
            </a: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). Se ne conoscono circa cinquecento specie, fra le quali anche qualche fu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7640" y="494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419720" y="3276720"/>
            <a:ext cx="1279440" cy="1279440"/>
            <a:chOff x="4419720" y="3276720"/>
            <a:chExt cx="1279440" cy="1279440"/>
          </a:xfrm>
        </p:grpSpPr>
        <p:sp>
          <p:nvSpPr>
            <p:cNvPr id="52" name=""/>
            <p:cNvSpPr txBox="1"/>
            <p:nvPr/>
          </p:nvSpPr>
          <p:spPr>
            <a:xfrm>
              <a:off x="4419720" y="3276720"/>
              <a:ext cx="1279440" cy="127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336760"/>
            <a:ext cx="418464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93236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Foresta equa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38760" y="2211480"/>
            <a:ext cx="4305240" cy="322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03800" y="55418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Foresta amazz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09680" y="2588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LA DIONAEA MUSCIP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0280" y="142704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LA DIONAEA MUSCIPLA FA PARTE DELLE PIANTE CARNIVORE AT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FA PARTE DELLA FAMIGLIA DELLE DROSERACE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360" y="2300400"/>
            <a:ext cx="2957400" cy="29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00720" y="2178000"/>
            <a:ext cx="27367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3520" y="17604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520" y="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IL SUO AMBIENTE è ORIGINARIO DEGLI STATI UNITI  (carolina del nord e del 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9000" y="1441440"/>
            <a:ext cx="4286160" cy="284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11320" y="4521240"/>
            <a:ext cx="36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360" y="4281480"/>
            <a:ext cx="32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Nord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91160" y="1525680"/>
            <a:ext cx="3325680" cy="277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74320" y="42530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Sud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762120"/>
            <a:ext cx="6769080" cy="379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760" y="0"/>
            <a:ext cx="90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"/>
              </a:rPr>
              <a:t>La pianta carnivora si può trovare come nemica nei giochi di super m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0:32:00Z</dcterms:created>
  <dc:creator>studente</dc:creator>
  <dc:description/>
  <dc:language>en-US</dc:language>
  <cp:lastModifiedBy>studente</cp:lastModifiedBy>
  <dcterms:modified xsi:type="dcterms:W3CDTF">2015-12-10T15:14:59Z</dcterms:modified>
  <cp:revision>6</cp:revision>
  <dc:subject/>
  <dc:title>Le piante carnivore</dc:title>
</cp:coreProperties>
</file>